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A2CB-DA61-4F15-A316-98860B5F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ble to get teacher buy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e district guidelines (doesn’t have to 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es concerns in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 have a perception right off the bat, then that needs to be brought to my attention, especially if it is just seen as a referral mechanism or extra paper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he ability to clarify a problem and facilitate a discussion in solv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able about the district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le to facilitate a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chools do not have a system, talk with other support people to find out what other schools are doing to help guide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if everyone has had training and/or understands how PLCs are suppose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document that you will just go through from beginning to end.  You will be skipping around with the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hools may not have something, but is functioning extremely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14-1315-4AD1-977F-0093452F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2B8-909D-4EE9-B588-CB70D161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610-8D02-482D-B36D-DAAC571A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EEE-5358-446F-B5E8-AED9FAA3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C41-43BD-474F-ABA3-D82EA7B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55B-0179-47FC-AB7F-7DE8854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9FC-F3F7-4ACD-BF33-D635673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7457-7490-46B4-A276-F33D35A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8AB3-8C23-4BB7-B82B-073A7107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214E-073A-46F9-BEE9-5EEF581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0220-08AB-445A-AFAF-1572E0E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732-B2C7-4CF8-9954-B49CC2C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0FBD-73E6-466C-8735-0E4907C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4252-A4F9-4CF1-8158-8107D97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8E5A-66E9-44DA-BBA0-61EB8F6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233F-87CE-458D-8D2E-24155248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207-C5BC-4EB2-8C1A-4F6C59C6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45D-73C1-4C5B-A8EC-2492226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C6E-CBEF-4182-9E4D-9B90362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94D-3713-413D-93CC-3D475626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12C-D78C-44E9-B0DB-79130EA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E5D-FD32-494A-AEAA-DC834FE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09B-C18D-426C-A083-7869BFB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973-ED45-4C57-A7D7-C248ADE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AFEB-D106-4697-A7C9-BC1189E53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F0D-34B8-4C83-A801-CF52B7B5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ssume the leaders are th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not only the people who are assigned to manage, but also those who appear to be l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for the names is so that I can check to see if they attended any of the past summ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your 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your perception based off the conversations, statements, how you see the process flow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take more than your first few visits to get a true 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eam fulfilling its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for the names is so that I can check to see if they attended any of the past summ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uses effective problem solving procedur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Team Protoc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the student’s area of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the data on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the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ames is so that I can check to see if they attended any of the past summer training.  Positions help to determine if they have the appropriate people on their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es for 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Posi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inette Thomas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of presentation came for NCD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eam meetings.  It helps to have a facilitator, note taker, and time keeper.  Remind all participants at the beginning of the meeting of the members’ roles/responsibilities, meeting structure, process, and purpose/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one team member to notify/remind members of their responsibilities after each meeting and before the next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election process for team membership.  Team members should be chosen based on interest, knowledge, and commitment, not just because it’s “their tur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time for meetings and coverage for teachers attending meetings if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as well as compensation or rewards for team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team building exercises.  Go on a retreat.  Get to know each other.  Do some fun things together.  Build relationships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elf awareness and your contribution to the climate and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all teachers at the beginning of the year about the team, how the team operates and the referral/intervention process.  An in-service that walks teachers through the process can b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ll team members so that everyone is involved and no one person domin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limate new teachers to the role and function of the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 Good teams need good LEADERSHIP and supportive ADMINIST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ing and respectful relationships with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od active listening skills that convey genuine interest and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the validity of a teacher’s concerns and feelings (e.g. frus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eachers for specific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focused on the primary purpose for the meeting.  (Refocusing is often necessary when a team member begins to spend time on extraneous or tangential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some teachers will need to be taught how to implement a strategy/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willing to have someone model how to implement an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will need support, encouragement, and reinforcement during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your own school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box of Interven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Have each teacher submit interventions that they have used and found to be successful.  Creating this toolbox encourages teacher ownership, involvement, and supportive consultat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me across as a jud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s a support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and check in with the teacher once the intervention has be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teacher of his/her choices and the possible consequences when considering approaches/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 - Ask “What do you anticipate might get in the way of carrying out this interventio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etired teachers or other personnel to assist in implementing strategies when the teacher is uncomfortable, resistant, or doesn’t seem able to implement an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dealing with angry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alm, take some deep bre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ome emotional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rsonalize in your own mind and repeat statements such as:  “This is not personal,” “The yelling is not about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v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ppropriate and effective comebacks ahead of time such as:  “Take your time and tell me all of your concerns.” “I want to hear what you have to s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od active listening skills that convey genuine interest and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your voice and choice of words so that neither is threatening nor intimid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high degree of profession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the validity of the concerns and feelings (e.g. anger, frustra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me “wait time” to cool off - may need to ask the person to return to talk with you once s/he or both of you have had time to cool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 that the parent may be misinformed so find out what s/he knows or thinks is tru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everyone’s goal is to do what’s best for the child and remind the parent/teacher that you ALL have that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 (make lemonade from lem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some empathy, but be authe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teacher/parent by finding something that you both agre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e negative emotions with a sense of caring (“I can see that this matter is important to you.” “I’m know that you are concerned about 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share correct information or clar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focused on your primary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collect addition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admit you made a mistake or to apologize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TIMING is cri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sponding to the dueling challenge or the “tug of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address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, honest,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rules and guidelines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how WE can figure this out or address the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umor when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view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for in-house transfer of PE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for teachers to be aware of exist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 Block -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Case Manager Descri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ames is so that I can check to see if they attended any of the past summer training.  Positions help give a better picture of the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LCs have to do with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r I &amp; Tier I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and Paper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this information from your conversations, statements, and how you see the process flow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attend meetings, just ask to see the folder/paper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d maintain rapport with the people in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sense of trust and 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proces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you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terven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ful for gathering information and clarifying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- Gives the speaker an opportunity to provide a wide range of possible responses.  Example:  What concern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- Typically result in specific information, focus and limit responses.  Example:  How often do you m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provide information or give advice within a query format.  Example:  What are things we have not looked at with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al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obtain general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facilitate discussion of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bring out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bring ou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open questions and then use more closed questions 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oo much control to person 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the focus off of respo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firing may feel like gr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ly may be viewed as r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d in an insensitive manner can destro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r Use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erson(SP): Did you try what we discu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: 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:  Did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:  Not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: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when using WH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olicit reasons and can put speaker on the defensive or result in bla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tend to respond by intellectualizing and ration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a needs assessment of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provide you with guidance on things to look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go into your school and dictate that they have to do everything the way it is listed in the gu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9:41:31Z</dcterms:created>
  <dc:creator>Chatham County Schools</dc:creator>
  <dc:description/>
  <dc:language>en-US</dc:language>
  <cp:lastModifiedBy>Chatham County Schools</cp:lastModifiedBy>
  <dcterms:modified xsi:type="dcterms:W3CDTF">2010-06-10T15:35:45Z</dcterms:modified>
  <cp:revision>11</cp:revision>
  <dc:subject/>
  <dc:title>Implementation Guide</dc:title>
</cp:coreProperties>
</file>